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7499350" cy="978535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11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36600" y="0"/>
            <a:ext cx="3011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79160" y="1153800"/>
            <a:ext cx="2390760" cy="3117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4800" y="4444560"/>
            <a:ext cx="5559480" cy="36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2480"/>
            <a:ext cx="3011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36600" y="8772480"/>
            <a:ext cx="3011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913DA5-DC61-41DA-898A-EB7926758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279520" y="1154160"/>
            <a:ext cx="2390760" cy="31179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94800" y="4444560"/>
            <a:ext cx="555948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36960" y="8772480"/>
            <a:ext cx="3011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2C1A6C-91C6-4581-A4F9-BFCECF389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B280-36DA-47FB-97B3-B528E79C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520" y="2604960"/>
            <a:ext cx="646596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520" y="5847120"/>
            <a:ext cx="646596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B95F-CDA0-4BEC-8676-58B3CBD4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520" y="2604960"/>
            <a:ext cx="31550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28600" y="2604960"/>
            <a:ext cx="31550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520" y="5847120"/>
            <a:ext cx="31550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28600" y="5847120"/>
            <a:ext cx="31550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2248-F36A-40DD-AC8F-D7027B55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520" y="2604960"/>
            <a:ext cx="208188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01800" y="2604960"/>
            <a:ext cx="208188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8080" y="2604960"/>
            <a:ext cx="208188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520" y="5847120"/>
            <a:ext cx="208188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01800" y="5847120"/>
            <a:ext cx="208188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88080" y="5847120"/>
            <a:ext cx="208188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8D2A-FF2F-426E-836F-1CBDC8D7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520" y="2604960"/>
            <a:ext cx="6465960" cy="62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FAF5-D720-43A6-A36E-01E149D4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520" y="2604960"/>
            <a:ext cx="6465960" cy="62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4F5B-89BB-452D-AB1F-2C4F0829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520" y="2604960"/>
            <a:ext cx="3155040" cy="62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28600" y="2604960"/>
            <a:ext cx="3155040" cy="62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3D07-C59D-450A-96E3-AFAD2D03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5EB0-4A4A-4D99-9BB4-B36A23D7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520" y="520560"/>
            <a:ext cx="6465960" cy="87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361-5B1A-40FC-987D-61F0306A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520" y="2604960"/>
            <a:ext cx="31550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28600" y="2604960"/>
            <a:ext cx="3155040" cy="62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520" y="5847120"/>
            <a:ext cx="31550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127E-9D43-407C-B822-A72D08DD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520" y="2604960"/>
            <a:ext cx="3155040" cy="62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28600" y="2604960"/>
            <a:ext cx="31550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28600" y="5847120"/>
            <a:ext cx="31550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0BC0-BE27-471D-8D9E-EA4464DB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520" y="2604960"/>
            <a:ext cx="31550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28600" y="2604960"/>
            <a:ext cx="31550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520" y="5847120"/>
            <a:ext cx="646596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95ED-798C-4C27-BA86-CB9F43DD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520" y="2604960"/>
            <a:ext cx="6465960" cy="62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7200" indent="-18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61960" indent="-18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36720" indent="-18756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311120" indent="-18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685880" indent="-18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685880" indent="-18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685880" indent="-18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67320"/>
            <a:ext cx="168588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82560" y="9067320"/>
            <a:ext cx="253188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95600" y="9067320"/>
            <a:ext cx="168588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5251D-A9C6-4F04-8088-231D9FC13E11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3"/>
          <p:cNvSpPr/>
          <p:nvPr/>
        </p:nvSpPr>
        <p:spPr>
          <a:xfrm>
            <a:off x="409680" y="6823080"/>
            <a:ext cx="6603840" cy="173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Sophonius 3:8  -  God of Abraham ... covenant writing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(rejected by islam)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Expect Me, saith the Lord,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 the day of My resurrection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at is to come ... to gather the Kingdoms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koran - Mohammed writing in ... maryam 19:35 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They said (in boast), "We killed Christ Jesus the son of Mary ...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but they killed him no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What ? ? ?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all-perfect,   all-powerful,   all-knowing,   creator of the universe  “allah” ... made a mistake in Sophonius Chapter 3 ? 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Or did “allah” just change in mind ... in the 7</a:t>
            </a:r>
            <a:r>
              <a:rPr b="0" lang="en-US" sz="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entury A.D. 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Isaias 40:8 - of God’s covenant with Abraham &gt;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word of our Lord endureth </a:t>
            </a:r>
            <a:r>
              <a:rPr b="0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forever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&gt;  &gt;  &gt;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surmountable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proof that the “islam” hoax is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t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redible ... God doesn’t chang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onclusion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Mohammed is not a “prophet” ... the “koran” is wrong ... there is no “allah” ... “islam” is not a religion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o tha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... it is impossible to discriminate against “muslims” based on religion, since “islam” is not a religion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8680" y="114480"/>
            <a:ext cx="7353360" cy="9592920"/>
          </a:xfrm>
          <a:prstGeom prst="rect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22400" y="196920"/>
            <a:ext cx="72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he  “koran”  itself  proves  ...  “allah”  does  not  exi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122400" y="777960"/>
            <a:ext cx="723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The “islam” coalition claims to be ... from God’s covenant with Abraham ... proven 100% false below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112680" y="936720"/>
            <a:ext cx="724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Simple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OGIC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dictates ... there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ANNOT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be ... a so called “god” ... who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ONTRADICTS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himself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412920" y="8753400"/>
            <a:ext cx="684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oint 1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group called “islam” claims to be from God’s covenant with Abraham ... which this handout proves is fals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oint 2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“koran” ... 100% contradicts the Abraham covenant Old Testament writings ... Mohammed did this in the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7</a:t>
            </a:r>
            <a:r>
              <a:rPr b="0" lang="en-US" sz="800" spc="-1" strike="noStrike" u="sng" baseline="30000">
                <a:solidFill>
                  <a:srgbClr val="000000"/>
                </a:solidFill>
                <a:uFillTx/>
                <a:latin typeface="Tahoma"/>
                <a:ea typeface="Tahoma"/>
              </a:rPr>
              <a:t>th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century A.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oint 3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God of Abraham states ... over and over in the Old Testament ... that He does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“change His mind”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oint 4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You cannot have ... a last “prophet of God” (Mohammed) who contradicts ... 4,000 years of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revious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(true) prophets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oint 5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“koran” is thereby proven false ... “islam” is not a religion ... there is no “allah”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oint 6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Since there is no “allah” ... there is no “allah” the “muslims” need to kill for ... as the “koran” and “hadith” direct the “muslims”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oint 7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“islam” apostasy from the truth ...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s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ausing the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oss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of all souls who subscribe to it.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lease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help those in the “islam” apostas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5"/>
          <p:cNvSpPr/>
          <p:nvPr/>
        </p:nvSpPr>
        <p:spPr>
          <a:xfrm>
            <a:off x="112680" y="2630520"/>
            <a:ext cx="724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  <a:ea typeface="Tahoma"/>
              </a:rPr>
              <a:t>~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roofs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below  &gt;   The “koran” is wrong  ...  “islam” is not a religion  ...  Mohammed is no prophet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  <a:ea typeface="Tahoma"/>
              </a:rPr>
              <a:t>~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9"/>
          <p:cNvSpPr/>
          <p:nvPr/>
        </p:nvSpPr>
        <p:spPr>
          <a:xfrm>
            <a:off x="409680" y="3071880"/>
            <a:ext cx="6603840" cy="173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roverbs 30:4  -  God of Abraham ... covenant writing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(rejected by islam)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Who hath ascended up into Heaven, and descended ?   What is the name of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His Son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, if thou knowest ?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koran - Mohammed writing in ... maryam 19:35 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It is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efitting to (the majesty of) Allah that He should beget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 son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What ? ? ?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all-perfect,   all-powerful,   all-knowing,   creator of the universe  “allah” ... made a mistake in Proverbs Chapter 30 ? 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Or did “allah” just change in mind ... in the 7</a:t>
            </a:r>
            <a:r>
              <a:rPr b="0" lang="en-US" sz="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entury A.D. 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Malachias 3:6 - of God’s covenant with Abraham &gt;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For I am the Lord, and I change not.”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&gt;  &gt;  &gt; 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surmountable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proof that the “islam” hoax is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t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redible ... God doesn’t chang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onclusion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Mohammed is not a “prophet” ... the “koran” is wrong ... there is no “allah” ... “islam” is not a religion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o tha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... it is impossible to discriminate against “muslims” based on religion, since “islam” is not a religion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2"/>
          <p:cNvSpPr/>
          <p:nvPr/>
        </p:nvSpPr>
        <p:spPr>
          <a:xfrm>
            <a:off x="879480" y="1236600"/>
            <a:ext cx="58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ree examples ... where “islam”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laims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to be ... from God’s Old Testament covenant with Abraham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We will quickly see below ... that this is a complete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ie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241200" y="1501920"/>
            <a:ext cx="405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"koran" in ... al-baqara 2:130 &gt;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And who, unless he be weak of mind, would want to abandon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braham's creed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409680" y="4946760"/>
            <a:ext cx="6603840" cy="173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Genesis 18:1-3 - God of Abraham ... covenant writing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(rejected by islam)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The Lord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appeared to him ... there appeared to him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Three Men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... And he said: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ord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, if I have found favour in thy sight ..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koran - Mohammed writing in ... an-nisa 4:171 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Believe ... and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do not say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, "(God is) a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trinity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 Desist (from this assertion) for your own good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What ? ? ?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all-perfect,   all-powerful,   all-knowing,   creator of the universe  “allah” ... made a mistake in Genesis Chapter 18 ? 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Or did “allah” just change in mind ... in the 7</a:t>
            </a:r>
            <a:r>
              <a:rPr b="0" lang="en-US" sz="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entury A.D. 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salm 116:2 - of God’s covenant with Abraham &gt;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truth of the Lord remaineth </a:t>
            </a:r>
            <a:r>
              <a:rPr b="0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forever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&gt;  &gt;  &gt; 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surmountable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proof that the “islam” hoax is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t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redible ... God doesn’t chang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onclusion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Mohammed is not a “prophet” ... the “koran” is wrong ... there is no “allah” ... “islam” is not a religion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o tha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... it is impossible to discriminate against “muslims” based on religion, since “islam” is not a religion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241200" y="1843200"/>
            <a:ext cx="405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"koran" in ... al-imran 3:84 &gt;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We believe in ... that which has been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bestowed upon Abraha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            Etc., etc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3"/>
          <p:cNvSpPr/>
          <p:nvPr/>
        </p:nvSpPr>
        <p:spPr>
          <a:xfrm>
            <a:off x="241200" y="2182680"/>
            <a:ext cx="418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"koran" in ... al-baqara 2:136 &gt;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best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laim to Abraha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are surely those who follow him - as does this Prophet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5129280" y="1571760"/>
            <a:ext cx="2006640" cy="93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4"/>
          <p:cNvSpPr/>
          <p:nvPr/>
        </p:nvSpPr>
        <p:spPr>
          <a:xfrm>
            <a:off x="5145120" y="1600200"/>
            <a:ext cx="203364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The following comparisons between the “koran” and the Old Testament Abraham covenant prophesies (of Christianity) ..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Prove ...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islam” has nothing to do with Abraham’s covenant.  Examples of mistakes by “allah”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... who “islam” amazingly claims to be God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"/>
          <p:cNvSpPr/>
          <p:nvPr/>
        </p:nvSpPr>
        <p:spPr>
          <a:xfrm rot="5400000">
            <a:off x="5003640" y="6088320"/>
            <a:ext cx="442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koran” extracts from  &gt;  www.islamicity.com  &gt;  Yusef Ali translation into English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58680" y="438120"/>
            <a:ext cx="735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Since there is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“allah” ... the “muslims” don’t need to kill for “allah”.    Includes proofs “islam” is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t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a religion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8"/>
          <p:cNvSpPr/>
          <p:nvPr/>
        </p:nvSpPr>
        <p:spPr>
          <a:xfrm>
            <a:off x="592200" y="50760"/>
            <a:ext cx="6313320" cy="14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658800" y="7920"/>
            <a:ext cx="61801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REASONS WHY ... A GREAT MANY PEOPLE LEAVE “ISLAM”    </a:t>
            </a:r>
            <a:r>
              <a:rPr b="1" i="1" lang="en-US" sz="9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~  ~</a:t>
            </a:r>
            <a:r>
              <a:rPr b="1" i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  THE SIMPLE A-B-C LOGIC ... WHICH DIRECTS TO LEAVE “ISLAM </a:t>
            </a: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5811840" y="3071880"/>
            <a:ext cx="1201680" cy="3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Selected Proof : 1 “islam” is a fabl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5962680" y="5319720"/>
            <a:ext cx="1050840" cy="29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Selected Proof : 2 “islam” is a fab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5811840" y="6823080"/>
            <a:ext cx="1201680" cy="33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Selected Proof : 3 “islam” is a fabl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6"/>
          <p:cNvSpPr/>
          <p:nvPr/>
        </p:nvSpPr>
        <p:spPr>
          <a:xfrm>
            <a:off x="122400" y="2809800"/>
            <a:ext cx="723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Note:  It is ...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MPOSSIBLE</a:t>
            </a: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.. to discriminate against “muslims” based on religion ... since “islam” is not a religion</a:t>
            </a:r>
            <a:r>
              <a:rPr b="1" lang="en-US" sz="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5"/>
          <p:cNvSpPr/>
          <p:nvPr/>
        </p:nvSpPr>
        <p:spPr>
          <a:xfrm rot="16200000">
            <a:off x="-2533680" y="5451480"/>
            <a:ext cx="56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salm 4:3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O ye sons of men ... how long will you ... why do you ... seek after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lying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   (Abraham covenant writing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5783400" y="3381480"/>
            <a:ext cx="13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Caution: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 Never ending Hell is a long time to be wrong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8"/>
          <p:cNvSpPr/>
          <p:nvPr/>
        </p:nvSpPr>
        <p:spPr>
          <a:xfrm>
            <a:off x="5781600" y="713412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Caution: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 Never ending Hell is a long time to be wrong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traight Arrow Connector 19"/>
          <p:cNvCxnSpPr/>
          <p:nvPr/>
        </p:nvCxnSpPr>
        <p:spPr>
          <a:xfrm flipV="1">
            <a:off x="4514400" y="1788480"/>
            <a:ext cx="529200" cy="191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75" name="Straight Arrow Connector 48"/>
          <p:cNvCxnSpPr/>
          <p:nvPr/>
        </p:nvCxnSpPr>
        <p:spPr>
          <a:xfrm>
            <a:off x="4514400" y="2150640"/>
            <a:ext cx="505800" cy="191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6" name="Right Brace 1"/>
          <p:cNvSpPr/>
          <p:nvPr/>
        </p:nvSpPr>
        <p:spPr>
          <a:xfrm>
            <a:off x="4248000" y="1655640"/>
            <a:ext cx="193680" cy="819360"/>
          </a:xfrm>
          <a:custGeom>
            <a:avLst/>
            <a:gdLst>
              <a:gd name="textAreaLeft" fmla="*/ 0 w 193680"/>
              <a:gd name="textAreaRight" fmla="*/ 69840 w 193680"/>
              <a:gd name="textAreaTop" fmla="*/ 5040 h 819360"/>
              <a:gd name="textAreaBottom" fmla="*/ 814320 h 81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3"/>
                  <a:pt x="10800" y="426"/>
                </a:cubicBezTo>
                <a:lnTo>
                  <a:pt x="10800" y="10374"/>
                </a:lnTo>
                <a:cubicBezTo>
                  <a:pt x="10800" y="10587"/>
                  <a:pt x="16200" y="10800"/>
                  <a:pt x="21600" y="10800"/>
                </a:cubicBezTo>
                <a:cubicBezTo>
                  <a:pt x="16200" y="10800"/>
                  <a:pt x="10800" y="11013"/>
                  <a:pt x="10800" y="11226"/>
                </a:cubicBezTo>
                <a:lnTo>
                  <a:pt x="10800" y="21174"/>
                </a:lnTo>
                <a:cubicBezTo>
                  <a:pt x="10800" y="21387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2"/>
          <p:cNvSpPr/>
          <p:nvPr/>
        </p:nvSpPr>
        <p:spPr>
          <a:xfrm>
            <a:off x="38160" y="8624880"/>
            <a:ext cx="728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Book Antiqua"/>
                <a:ea typeface="Tahoma"/>
              </a:rPr>
              <a:t>~  ~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Summary of this worksheet  </a:t>
            </a:r>
            <a:r>
              <a:rPr b="1" lang="en-US" sz="900" spc="-1" strike="noStrike">
                <a:solidFill>
                  <a:srgbClr val="000000"/>
                </a:solidFill>
                <a:latin typeface="Book Antiqua"/>
                <a:ea typeface="Tahoma"/>
              </a:rPr>
              <a:t>~  ~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traight Connector 10"/>
          <p:cNvSpPr/>
          <p:nvPr/>
        </p:nvSpPr>
        <p:spPr>
          <a:xfrm>
            <a:off x="244440" y="2575080"/>
            <a:ext cx="699444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traight Connector 44"/>
          <p:cNvSpPr/>
          <p:nvPr/>
        </p:nvSpPr>
        <p:spPr>
          <a:xfrm>
            <a:off x="244440" y="720720"/>
            <a:ext cx="699444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traight Connector 45"/>
          <p:cNvSpPr/>
          <p:nvPr/>
        </p:nvSpPr>
        <p:spPr>
          <a:xfrm>
            <a:off x="244440" y="1201680"/>
            <a:ext cx="699444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15"/>
          <p:cNvSpPr/>
          <p:nvPr/>
        </p:nvSpPr>
        <p:spPr>
          <a:xfrm>
            <a:off x="4551480" y="2062080"/>
            <a:ext cx="5205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255760" y="4119480"/>
            <a:ext cx="2768760" cy="1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  <a:ea typeface="Times New Roman"/>
              </a:rPr>
              <a:t>Etc, etc, etc ... More  &gt;  Section 113  &gt;  www.Gods-Christian-Dogma.co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331920" y="2166840"/>
            <a:ext cx="5570280" cy="204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HOW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 did all-knowing “allah” ... make this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AME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 mistake ...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31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 times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during the Old Testament, with this one ? ? 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331920" y="185760"/>
            <a:ext cx="6804000" cy="173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Daniel 3:92  -  God of Abraham ... covenant writing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(rejected by islam)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In the midst of the fire ... there is no hurt in them, and the form of the fourth is like the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on of God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koran - Mohammed writing in ... al-ikhlas 112:2-3  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Allah, the Eternal, Absolute; He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begetteth no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, nor is He begotten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What ? ? ?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all-perfect,   all-powerful,   all-knowing,   creator of the universe  “allah” ... made a mistake in Daniel Chapter 3 ? 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or did “allah” just change in mind ... in the 7</a:t>
            </a:r>
            <a:r>
              <a:rPr b="0" lang="en-US" sz="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entury A.D. 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salm 118:89 - of God’s covenant with Abraham &gt;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Forever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, O Lord, Thy word standeth firm in Heaven.”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&gt; &gt; 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surmountable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proof that the “islam” hoax is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t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redible ... God doesn’t chang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onclusion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Mohammed is not a “prophet” ... the “koran” is wrong ... there is no “allah” ... “islam” is not a religion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o tha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... it is impossible to discriminate against “muslims” based on religion, since “islam” is not a religion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58680" y="58680"/>
            <a:ext cx="7353360" cy="9648720"/>
          </a:xfrm>
          <a:prstGeom prst="rect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331920" y="2367000"/>
            <a:ext cx="6804000" cy="185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Genesis 17:19  -  God of Abraham ... covenant writing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(rejected by islam)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And thou shalt call his name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saac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, and I will establish My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ovenant with hi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for a perpetual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ovenan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koran - Mohammed writing in ... al-baqara 2:125  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And We covenanted with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braham and Isma'il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, that they should sanctify My House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What ? ?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all-perfect,   all-powerful,   all-knowing,   creator of the universe  “allah” ... made a mistake in Genesis Chapter 17 ? 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irty-one (31) times during the Old Testament ... “allah” says the covenant is with Isaac ... then changes to Ismael in the 7</a:t>
            </a:r>
            <a:r>
              <a:rPr b="0" lang="en-US" sz="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entur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salm 110:8 - of God’s covenant with Abraham &gt;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All ... confirmed </a:t>
            </a:r>
            <a:r>
              <a:rPr b="0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forever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and ever, made in truth.”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&gt;  &gt;  &gt; 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surmountable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proof that the “islam” hoax is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t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redible ... God doesn’t chang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onclusion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Mohammed is not a “prophet” ... the “koran” is wrong ... there is no “allah” ... “islam” is not a religion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o tha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... it is impossible to discriminate against “muslims” based on religion, since “islam” is not a religion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331920" y="4403880"/>
            <a:ext cx="6804000" cy="217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Additional applicable points  ...  Reference website  ...  for below Section numbers  &gt;  www.Gods-Christian-Dogma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1. It is impossible ... to discriminate against “muslims” based on religion ... because “islam” is not a religion.    Section 1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2. The group called “islam” is a man-made fable ... which masquerades as a religion ... as it breaks commandment after commandment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3. God’s covenant is one of Faith.   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Osee 2:20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- God of Abraham covenant writing &gt; “And I will espouse thee to Me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 faith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    Section 13.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4. There is no ... “religious test” being undertaken by not permitting “muslims” into a country ... because “islam” is not a religion.    Section 113.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5. Whoever dies in the un-baptized (theological) pagan state ... descends into Hell with all the heretics.    Sections 7,  7.2,  7.2.1,  7.2.2,  8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6. God identifies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70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times there is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one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hristianity ...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25,000 “versions”.   Eph 3:5 &gt; “One lord, one Faith, one Baptism”    Sections 8.4 &amp; 8.4.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7. The vatican-2 heretic cult (founded in 1965) ... Which continuously praises “islam”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s no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the Catholic Church (founded in 33 AD).    Section 1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5905440" y="185760"/>
            <a:ext cx="1227240" cy="33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Selected Proof : 4 “islam” is a fabl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58680" y="6267600"/>
            <a:ext cx="7353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Bad news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:  The “koran” and “hadith”  ...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do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say to kill us (non-muslims)  ...  for the non-existent “allah”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66600" y="668664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koran ... al ahzab 33:61 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“They shall have a curse on them: whenever they are found, they shall be seized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nd slain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(without mercy)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66600" y="701676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koran ... al anfal 8:60 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“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trike terror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into (the hearts of) the enemies, of Allah and your enemies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66600" y="734544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koran ... ali imran 3:151 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Soon shall we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ast terror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into the hearts of the unbelievers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114480" y="9228240"/>
            <a:ext cx="7238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Book Antiqua"/>
              </a:rPr>
              <a:t>~          ~          ~          ~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66600" y="8004240"/>
            <a:ext cx="719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hadith ... sahih muslim book 19 : 4321 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Re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Murder the women and children for non-existent “allah”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“Prophet of Allah ... when asked about the women and children of the polytheists being killed during the night raid, said: They are from them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66600" y="767556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koran ... an nisa 4:76 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“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Fight in the cause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of Allah, and those who reject faith ...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figh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ye against the friends of Satan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66600" y="833436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hadith ... sahih muslim book 19 : 4294 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“Fight in the name of Allah ... Fight against those who disbelieve in Allah. Make holy war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5"/>
          <p:cNvSpPr/>
          <p:nvPr/>
        </p:nvSpPr>
        <p:spPr>
          <a:xfrm>
            <a:off x="66600" y="866304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hadith ... sahih bukhari book 52 : 073 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Re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Kill for paradise ... a “reward from allah” ... who doesn’t exist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“Allah's Apostle said, Know that Paradise is under the shades of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words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6"/>
          <p:cNvSpPr/>
          <p:nvPr/>
        </p:nvSpPr>
        <p:spPr>
          <a:xfrm>
            <a:off x="66600" y="899316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hadith ... sahih bukhari 52 : 53 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“Allah's Apostle said ... I have been made victorious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with terror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    (“hadith” = associated text of the “koran”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7"/>
          <p:cNvSpPr/>
          <p:nvPr/>
        </p:nvSpPr>
        <p:spPr>
          <a:xfrm>
            <a:off x="142920" y="9472680"/>
            <a:ext cx="719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Thank-you for permitting us ... to help you identify ... that “islam” is not from Heaven.   Untold numbers of people leave it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8"/>
          <p:cNvSpPr/>
          <p:nvPr/>
        </p:nvSpPr>
        <p:spPr>
          <a:xfrm>
            <a:off x="104760" y="6477120"/>
            <a:ext cx="726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So that ... the killing is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slam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...  and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t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“radical islam”.     The “muslim” killers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re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following their books, period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5905440" y="2367000"/>
            <a:ext cx="1227240" cy="3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Selected Proof : 5 “islam” is a fabl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82"/>
          <p:cNvSpPr/>
          <p:nvPr/>
        </p:nvSpPr>
        <p:spPr>
          <a:xfrm>
            <a:off x="6095880" y="6730920"/>
            <a:ext cx="1316160" cy="3970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 one</a:t>
            </a: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 is ..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“radicalized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the muslims are following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their “koran” and “hadith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74"/>
          <p:cNvSpPr/>
          <p:nvPr/>
        </p:nvSpPr>
        <p:spPr>
          <a:xfrm>
            <a:off x="5695920" y="7656480"/>
            <a:ext cx="1716120" cy="4017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More like koran and hadith extracts ..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www.Gods-Christian-Dogma.co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Sections 113.4  and  113.4.1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94"/>
          <p:cNvSpPr/>
          <p:nvPr/>
        </p:nvSpPr>
        <p:spPr>
          <a:xfrm>
            <a:off x="5772240" y="7188120"/>
            <a:ext cx="1639800" cy="403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So that ..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The constant worldwide drumbeat ... that terrorism is not part of “islam” ... are </a:t>
            </a:r>
            <a:r>
              <a:rPr b="1" lang="en-US" sz="7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ll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 lie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4"/>
          <p:cNvSpPr/>
          <p:nvPr/>
        </p:nvSpPr>
        <p:spPr>
          <a:xfrm rot="5400000">
            <a:off x="5605920" y="4590360"/>
            <a:ext cx="336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More on these subjects  &gt;  www.Gods-Christian-Dogma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82"/>
          <p:cNvSpPr/>
          <p:nvPr/>
        </p:nvSpPr>
        <p:spPr>
          <a:xfrm>
            <a:off x="5695920" y="8988480"/>
            <a:ext cx="1716120" cy="45252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handout availabl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On Appendix A-1 &gt; Item 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www.Gods-Christian-Dogma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5905440" y="2693880"/>
            <a:ext cx="1227240" cy="18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Etc ... More &gt; Section 113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94"/>
          <p:cNvSpPr/>
          <p:nvPr/>
        </p:nvSpPr>
        <p:spPr>
          <a:xfrm>
            <a:off x="5419800" y="8407440"/>
            <a:ext cx="1992240" cy="412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No one can get to Heaven ..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in the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un-baptized (theological) pagan state.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Proven on Sections  &gt;  7,  7.2,  7.2.1,  7.2.2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9"/>
          <p:cNvSpPr/>
          <p:nvPr/>
        </p:nvSpPr>
        <p:spPr>
          <a:xfrm rot="16200000">
            <a:off x="-1296000" y="4699800"/>
            <a:ext cx="2982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hadith” extracts from &gt;  www.hadithcollection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31"/>
          <p:cNvSpPr/>
          <p:nvPr/>
        </p:nvSpPr>
        <p:spPr>
          <a:xfrm>
            <a:off x="5904000" y="504720"/>
            <a:ext cx="13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Caution: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 Never ending Hell is a long time to be wrong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1T12:58:49Z</dcterms:created>
  <dc:creator>Mike Bizzaro</dc:creator>
  <dc:description/>
  <dc:language>en-US</dc:language>
  <cp:lastModifiedBy>Mike Bizzaro</cp:lastModifiedBy>
  <cp:lastPrinted>2018-06-22T21:05:07Z</cp:lastPrinted>
  <dcterms:modified xsi:type="dcterms:W3CDTF">2018-06-27T13:41:12Z</dcterms:modified>
  <cp:revision>279</cp:revision>
  <dc:subject/>
  <dc:title>PowerPoint Presentation</dc:title>
</cp:coreProperties>
</file>